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CC3F-5459-45FC-B99C-47EE22F05A8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CB8E-90D7-49E8-8818-B9505AE77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341A-F9FD-4143-97A7-F364B3B57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E337-CB34-4D4B-B748-918114E23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9C52-D496-46CB-BD43-90E0AED61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CA1C-213D-4970-A4DF-B6FC42BC4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92DD-7B0C-4D9E-B1CE-E62CF333C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32A1-8F20-4719-BA58-B498EE8F5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DFD8-EA96-4542-822B-E7AF5F359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444B-DDDD-42FF-A8F9-D0BB042B7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94BB-2003-457F-9E28-03CC5C99E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9359-4FAE-49B8-A05D-535FF9662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73D8-52E3-41EF-A76D-4D5FC6FFB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EF5C-980F-48D3-AF16-8FC888981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671D-F7D9-4958-83C1-4E80897FB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A2EC-28EF-4C5C-B84D-2D89FBA8C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2FAA-8CB3-41CA-933A-FFF022671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0E6F-2C97-48D6-8D5C-B23F68A26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A66F-2AD1-4F39-8B67-72EB317BB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A211-E59B-444E-B134-DF73FCC20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78B7-8E2A-4DDD-97D1-9FB0AF9C0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3FF1-69B6-4C18-A59A-A68454E6F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5EC3-F90C-497B-839A-90D062D7E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BFE4-A4DB-4FF8-963F-8F3471870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FF7B-EFAB-4405-BFE2-ADC886EE2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7ED2-A401-4598-8997-1F4394B32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B384-F032-4036-8AB0-FEBFCB64F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60E4-D262-41FC-B4A0-E63AA8A1F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638D-CEBD-4DAA-82D2-181031ADB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20BA-7D3B-4D11-B773-0B5966109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2814-848A-417E-BC69-D50103B4A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9573-3877-43F0-8238-EC7201099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ACD5-FF71-4145-AA86-8259BEA3D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829C-1848-4816-8DA9-6B0FC90DA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6184-2C62-4085-B736-2BEC8A286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D55D-A9F1-4826-86AC-74006E224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744E-B49E-4FAB-AC2E-8670C86FC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FD67-9225-4B26-88DF-B74F1D14B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6160-4602-4163-8F3C-F7FC20CB2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6658-CC7E-4814-AFB8-67A410B7B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048D-92C5-4272-AA37-4F60001C8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EBFC-26A0-43F6-BC96-688745B44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E9E5-59BE-48F7-BE76-A39501526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B493-C887-4F12-BAB2-74BA39237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A3EF-2EA3-472A-924A-1369BDFAC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C65E-C74D-41C8-B8D3-155A8258F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D8FD-2F46-4B70-B9F7-BE8D8EEC9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A116-474D-4B03-8747-4685CAA80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4F2D-45BD-4514-9B94-C1F71534D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DD55-9CC1-40D1-86AB-D0ED2B5C0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5242-B2DB-40A4-AAAC-A25F5AD62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C604-C146-46CF-B392-DF974B127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F4D6-E948-432F-8808-CD20412E5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EFA2-23DA-4F45-A9A8-432AF4FA3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D62E-103E-4BBA-8669-9FB4D14F1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DDE1-C1E5-473B-A55A-CC1CD7ACC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2310-9039-4C12-B976-83FE9DF0D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3E74-8DBA-4F64-9A26-EBFAE3187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F1D8-6C95-41D5-80E6-23DEAC1F5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FEF2-C4B0-4175-BA31-214E592B0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7D72-2D49-4B7A-8BCA-455A776BD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1780-E3FE-4C69-937E-0E65BCD34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0573-E463-465B-9F42-031B8B675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C497-8ADA-4E2A-98AA-6497502B8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25C0-3A7C-4599-A0F3-B1C089DF6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B0A8-607E-4544-9D4C-14EB6384E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DFEF-E7C2-4DD7-ABF4-14D2A9764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0594-0484-4782-A4D8-CB177438E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53C8-B927-4C87-9AC8-0371F9C9C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1647-FE57-4BA9-9054-12EA97F90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AB22-8A2B-4AF7-B131-32574CF9E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E6F8-2765-4C8A-9015-D489E886F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83565-932E-4766-986E-280ECB11D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2F87E-BBB3-409F-B81B-7128273F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CF46BE-B383-4786-9006-B3678272D1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21451F-74FA-4257-AF46-B21865B61A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118070-B968-4937-8C9B-71CF5451D2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81010-8862-46C0-80C3-735BBC4DA0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5A6054-BB11-4AD0-A7F2-BD938BF4C0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584827-824F-4B2B-9BE7-40E85CDE40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B92AA7-5EAD-410D-B54C-4083E588C4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831813-FB72-4F70-B213-1D1B0A7594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372AC7-EF38-4EFE-AB73-A4599A6D1C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F2FBE6-9E3F-4B7E-BC27-112E224363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7A182-B19B-43BA-8F1A-06DD929D7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63F6A3-5E9F-4872-B9DC-697719596B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E877F7-1BF5-4F67-A724-8DD7CB2578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B91B6A-5CE0-419A-8D14-75F327D0A2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F1AB89-AB10-46BB-8BD7-6CA54D1139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0D301C-58DE-44BC-B6A8-63D07F8EC8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F545F5-13C6-44FB-96AD-53466B136E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860E14-5F4F-4AED-AEA3-CBAB013CEE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0328FC-265C-4441-944F-18DDDDF2CB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56575E-5A3A-456A-9B48-4A45EFC720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F31758-AAB3-4F44-B12C-E723EE641C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C83A2-55B6-4988-B709-7D1D4AA44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D717A42-5A50-4F2C-92D1-E73A34823C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F5248A-2BA7-4411-A99F-E24FAC08C4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B5529C-94DB-468B-BD02-34667B6E74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679286-F0A4-47B9-9EDE-D59EF66BE8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7E0EFB-7178-4E31-BED2-5C1C0FF4A6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48F988-4985-4A86-9138-0443B57DDE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774682-9FA9-4B55-89AC-30836CC30F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7A5F12-4302-4196-8117-B1F0550035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449FEA-7E2E-4512-A3DF-BC6FF269E2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0628C9-B449-42A0-8735-118546A244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D5B9F-A28E-4132-B9A9-B4920E0F7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E7DA57-B1DC-48A9-8821-E7560AB218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D4AC76-741F-4C3C-ACCB-12713C61A4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31A4EEA-0F43-4DDC-B949-596CF80A98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D4C1BE1-074F-4991-8CAE-4FA1B2D26A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0591FA-FEDB-4395-B493-91FB3DA921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F43056-74A7-4BF6-8A8F-7AEC094734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8BCBA9-A569-4922-968B-5C2BA26185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B25C3C-3F13-4FD3-8D04-F9FAC8492C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D500A9-0A8E-4AE0-A45D-F2C508085F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16D26F-18D8-4B0B-8948-057C3FCC27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7E2DA-5002-49B0-879B-57A1D7D45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F033C8-4EB9-4E9A-87B3-22C31CC4C2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B17911-FA58-4F52-85B8-A2E0D4B9C2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400A28-DEE8-4F3E-9FE2-BCA79C5877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299DF1-905A-48B0-AB48-48683F4CC6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AF612E-46D6-4554-8D02-4B354A5EB9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CA5E571-F026-4421-AA7D-B10368A4D81F}"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FE61CD1-B44E-4EA2-9AE4-B4517C5637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E925804-270B-4D8A-903D-EACEBC7F31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D4B829E-D6F8-4AAE-9186-708A1CEC97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3A090222-11FB-405B-9D13-D933ADB6BAC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D5F8E-FB2D-4BB7-B323-CC26E73DD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3473137-EA1B-4217-9150-6991E7AAF3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3C11182-D583-453C-A47D-A2236EA3FB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DE96263-DE0B-4360-9A9E-F619DCC94B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93B5D04-446B-4B25-9194-A2D27B5801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BE3F75D-0216-4C03-96D9-2520C07981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12FEFA01-7AC5-4F6F-B3CA-993121548E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088F1CE3-634E-4EF1-BA42-E8BA747EDBD4}"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3314B-0781-4F05-887B-C4A8A7F8A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54286-3145-4B8E-AD90-DD31B2C1B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382E0-522E-4FE0-AB0B-337AC13DF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AE342-B837-4954-809D-B3081C56F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7D2E9-2C28-47ED-96B0-6429E93AE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F5B2C-886B-4CFA-9FE2-6FB563D73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7B3D0-75C7-44AB-87C5-69F815C0D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5CD78-967E-4072-9B6D-BFB7CF098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0AB3C-98A4-4EEC-8CD4-4542C00C1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A9813-2D23-421F-A41D-A3E3367F4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ACC286-48C4-481D-9383-B547CF6959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A2EF3-762F-493B-A0A3-4632AE137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13216E-F617-4784-B136-EBBDE89B7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0E47A4-FF5C-4B82-8D76-35AD6A408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2126E-95AD-4CF4-ACF0-DCE91379E7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F1C34-BC7A-4405-A59B-D5FA9C473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1E1263-CD2D-4ED5-9926-0C76F39E2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28302-24C3-4754-8739-A8DAAC060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3D483-A93E-4CF1-94FE-D749DAF67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8838C-25A6-4B90-BDEF-43FCDDE6B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314AEC-22BF-43CD-A90D-2FA07BA67D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A79507-00F4-4CBD-9DEE-5B0A9B708A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AEF58A-64E1-485F-9E75-26F2977456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3BC043-9D57-446B-BF37-2CA5C6CB1A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F00C36-52C6-46BB-8076-84A3D3CB1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8389BB-0EB1-4854-810E-22F33FAEF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A9D2E-B7E8-4C3F-A954-58B8E3768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93A40D-9BF3-47B8-BFCE-8BFD814DF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B34E26-DFD2-43C4-ADAB-6F0A923F91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4CE529-A674-400B-A426-CBE0BF027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15ADE2-0F61-42EC-B68C-52EB87D82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BFAD7-0591-4ED5-8F76-6DE1CAECE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3E787-382F-427C-B89F-42046B3F4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C7455-2358-44A3-9B22-0D0DE6AD05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3698D0-2EB2-4716-9E50-7E036DA0EE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698295-E142-4AFE-B609-3E05DC51E5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C16197-CB41-4636-A77B-40794F333C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40A95-148D-40F1-8333-8B4519645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82DD58-AC25-4BC9-B934-304EA1E7B5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417A32-473D-4C1C-A462-54AE691479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C1133-2FAC-403E-9F6F-379F7078BC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D56CEC-8984-428D-80C2-4B922F095E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2D3C8B-5F62-4014-B094-E3C2F2F42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B3C23-421C-47CB-95B8-09D278F0A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3636C-548C-45CE-8636-BD882E074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3E1E5-8785-4590-BD00-BDFCF4D5C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36A2D-8681-4F9F-857B-A1D0A43DBA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45F603-1641-4607-9359-4CBADC7A28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1751F-C86F-43F2-8BA4-C845C218A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C8E851-64B4-4C6D-B31B-578F376352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933CA0-AAFE-4BBF-BC00-F5EDC6445E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858E97-EDE4-40F7-98C1-B45D6FC254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8F0715-B293-41CC-B043-63E467465B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F6BB18-A790-40F8-A545-BCC6E9CDB4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829EAF-EBCF-4576-B3F1-9DEE607276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F9CD14-5415-4E90-AA96-5B18CD2227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818A4-6371-4FC5-8444-E404823654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B7CCE-EFE7-4D99-BFD4-76AB45D61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4C4AC-6502-4063-9EA6-0D3005836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5C8C-6512-4B74-9255-264A3E0BE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622B0-8810-4B34-B810-436D6746C5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B4439A-57FE-4564-89E2-B4D1CABF2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8C766B-B969-4040-826E-341CD69813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1E1922-2591-438F-A5D2-785B58020A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8BAD9-77BE-497E-9D78-DD86904C02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1C14D-7D29-4468-BD08-0747B9526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1F50E9-60F4-409A-B85C-7E8DBD2F3C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7528C1-9AD5-4911-8797-83CF924BA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EA7ABD-74DE-4869-B101-7AAC7C2B91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1C61D-DCA5-45C0-B0BF-1A50866E5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5D0D5-A3CB-4BD1-9B59-1F158E2F6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A9C995-674C-4901-AC82-74C84CA61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791108-F814-4F98-97C9-B468300F7C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A1CA1-FEBA-47A8-9E99-F15A760192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A64DEB-8AB9-4888-803D-CAC0EEEE0D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4968F1-41BD-4FAD-83D4-865AF66430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70323C-346D-4891-8026-1CEBE5CB49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1CFECC-D363-4C43-8BD3-7C03A55371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620539-2293-47F9-BB21-02A32E772B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11D09B-EC7B-4EBC-9D6C-E3AB48D0BD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C884B2-9995-451D-934B-0258D2E82D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7CD78-CBAC-4147-8EE3-9F3687359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50B4A5-A2D0-4AB5-A3B5-DF1DEDCEA2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3EB58-3545-43AD-B5E7-B386F82B2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E3F2F-59F8-425D-9CA4-BEA0B0BFD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1826C-4E79-46B0-8106-985A77611C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00C9A1-4A5F-4512-B353-672A5DB94F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636E02-8CDA-498C-810D-8B29089688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7CD34B-239C-4D38-99C8-F495A4BB50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5AA2EC-21E9-46A3-9986-75402F910D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245E7B-A780-47F9-9B55-CF24C83ED3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8F45E7-67F9-46C3-A91C-1F265FCD41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2F30-6B5C-44CD-A157-D126BF80713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372F-6289-442C-A06E-2F7E8DEAFA6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60DB-CAE3-46CF-B029-287C7F0D4FC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AA0D-F4D4-4499-ACAF-75242AAE96F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0C4E-15B2-44FF-AFDD-9FC67627E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B55B-4C8C-4F86-A60B-A4CB285DB72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1D48-8A7A-4B4E-B4CE-57C3A2C216B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129F-94B2-467A-8C5F-6843D5C8F5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9C8E-B4BD-4196-8975-207EE9F2F66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F096-EB7B-427E-B402-51404BA76BD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E4EB-B7E5-4349-B3C6-E98C95347FE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3CF3-983A-415A-8DAE-EBCA66208A2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3805-7F2B-49D0-BDD0-B3CF5D94D82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0764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81080" y="1392120"/>
            <a:ext cx="82785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24000" y="1268280"/>
            <a:ext cx="849600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539640" y="1268280"/>
            <a:ext cx="8277480" cy="4824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21284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εξωτερικές δραστηριότητες (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125000"/>
            <a:ext cx="8207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5280" y="1125000"/>
            <a:ext cx="8137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773280" y="1233360"/>
            <a:ext cx="759744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97164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87" name="Picture 9" descr=""/>
          <p:cNvPicPr/>
          <p:nvPr/>
        </p:nvPicPr>
        <p:blipFill>
          <a:blip r:embed="rId1"/>
          <a:stretch/>
        </p:blipFill>
        <p:spPr>
          <a:xfrm>
            <a:off x="0" y="0"/>
            <a:ext cx="9144000" cy="1368360"/>
          </a:xfrm>
          <a:prstGeom prst="rect">
            <a:avLst/>
          </a:prstGeom>
          <a:ln w="0">
            <a:noFill/>
          </a:ln>
        </p:spPr>
      </p:pic>
      <p:pic>
        <p:nvPicPr>
          <p:cNvPr id="1188" name="Picture 10" descr=""/>
          <p:cNvPicPr/>
          <p:nvPr/>
        </p:nvPicPr>
        <p:blipFill>
          <a:blip r:embed="rId2"/>
          <a:stretch/>
        </p:blipFill>
        <p:spPr>
          <a:xfrm>
            <a:off x="1258920" y="2060640"/>
            <a:ext cx="1297080" cy="1528560"/>
          </a:xfrm>
          <a:prstGeom prst="rect">
            <a:avLst/>
          </a:prstGeom>
          <a:ln w="0">
            <a:noFill/>
          </a:ln>
        </p:spPr>
      </p:pic>
      <p:pic>
        <p:nvPicPr>
          <p:cNvPr id="1189" name="12 - Εικόνα" descr=""/>
          <p:cNvPicPr/>
          <p:nvPr/>
        </p:nvPicPr>
        <p:blipFill>
          <a:blip r:embed="rId3"/>
          <a:stretch/>
        </p:blipFill>
        <p:spPr>
          <a:xfrm>
            <a:off x="6948360" y="1989000"/>
            <a:ext cx="1444680" cy="1573200"/>
          </a:xfrm>
          <a:prstGeom prst="rect">
            <a:avLst/>
          </a:prstGeom>
          <a:ln w="0">
            <a:noFill/>
          </a:ln>
        </p:spPr>
      </p:pic>
      <p:sp>
        <p:nvSpPr>
          <p:cNvPr id="119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9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907560"/>
            <a:ext cx="813744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4:54Z</dcterms:modified>
  <cp:revision>165</cp:revision>
  <dc:subject/>
  <dc:title>Παρουσίαση του PowerPoint</dc:title>
</cp:coreProperties>
</file>